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jpeg" ContentType="image/jpeg"/>
  <Override PartName="/ppt/media/image20.jpeg" ContentType="image/jpeg"/>
  <Override PartName="/ppt/media/image13.png" ContentType="image/png"/>
  <Override PartName="/ppt/media/image27.jpeg" ContentType="image/jpeg"/>
  <Override PartName="/ppt/media/image6.jpeg" ContentType="image/jpeg"/>
  <Override PartName="/ppt/media/image30.wmf" ContentType="image/x-wmf"/>
  <Override PartName="/ppt/media/image7.png" ContentType="image/png"/>
  <Override PartName="/ppt/media/image28.png" ContentType="image/png"/>
  <Override PartName="/ppt/media/image10.jpeg" ContentType="image/jpeg"/>
  <Override PartName="/ppt/media/image5.png" ContentType="image/png"/>
  <Override PartName="/ppt/media/image29.jpeg" ContentType="image/jpeg"/>
  <Override PartName="/ppt/media/image1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d62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002d62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492EC-45D1-4422-8BE3-D2CBCFB80E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6FE52-AC99-482B-A9F8-8B3B5E87ED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13ABD-AF4D-40B9-BC10-9CB7611E06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68280" y="725400"/>
            <a:ext cx="4783320" cy="35895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3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160D88-9AF4-4314-AFAB-3606F9BBB1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68280" y="725400"/>
            <a:ext cx="4783320" cy="35895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3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83D9F-3C72-4FD7-A299-4F338C73FC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801396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29720" y="3508200"/>
            <a:ext cx="801396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3B032-CF06-4539-A06A-7D94A2E7F0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36240" y="112392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29720" y="350820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36240" y="350820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33649-A5DA-4B5C-BE91-AF0DCF9ABD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258012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39080" y="1123920"/>
            <a:ext cx="258012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48800" y="1123920"/>
            <a:ext cx="258012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29720" y="3508200"/>
            <a:ext cx="258012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39080" y="3508200"/>
            <a:ext cx="258012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48800" y="3508200"/>
            <a:ext cx="258012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464BA-7492-452E-8E57-2F6DDF23C2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49F1C-FAC9-46CE-BC6D-5F98232FED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29720" y="1123920"/>
            <a:ext cx="8013960" cy="456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8F716-5CE6-4C4E-AA35-D409A40562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801396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D0681-5B68-403B-8057-24D0EACB31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391068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6240" y="1123920"/>
            <a:ext cx="391068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7BCF0-CFA7-4050-B37C-E9939C1F02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E6291-52A1-4DEC-B8AA-D3166383E1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60440" y="269640"/>
            <a:ext cx="776592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84360-6FBC-4C70-B3E7-B1B053867E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6240" y="1123920"/>
            <a:ext cx="391068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29720" y="350820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9C185-9C3F-4CA4-A684-37924C07C0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29720" y="1123920"/>
            <a:ext cx="8013960" cy="456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AFAE0-652C-4350-8EDB-5D0B9606B5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391068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36240" y="112392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36240" y="350820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0DE59-61C5-459D-87E9-6BD8EA8D62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36240" y="112392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9720" y="3508200"/>
            <a:ext cx="801396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EBAF6-48B0-4D13-BD3E-422ADA33E0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801396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29720" y="3508200"/>
            <a:ext cx="801396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D9376-DA31-49F5-B877-87F1409AF8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6240" y="112392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29720" y="350820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36240" y="350820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9559E-5CA0-4023-8ECB-7B7248DBAF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258012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9080" y="1123920"/>
            <a:ext cx="258012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48800" y="1123920"/>
            <a:ext cx="258012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29720" y="3508200"/>
            <a:ext cx="258012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39080" y="3508200"/>
            <a:ext cx="258012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48800" y="3508200"/>
            <a:ext cx="258012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322C8-6174-41F5-A8B2-FC2B5B051A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801396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92A9B-CD39-48D3-A3A3-47C28F87B0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391068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36240" y="1123920"/>
            <a:ext cx="391068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2BE7D-8B6D-4B89-963C-E7E34A7479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BD5C8-DAD3-42B2-B5C3-E0E2CB050E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0440" y="269640"/>
            <a:ext cx="776592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DFEF0-364F-43B2-BC5D-C2FA5DCBA1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36240" y="1123920"/>
            <a:ext cx="391068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29720" y="350820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F571B-D064-45AF-A0BB-258EB74E4D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391068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36240" y="112392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36240" y="350820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4E117-B56F-449F-937B-B4F0F61E0B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36240" y="1123920"/>
            <a:ext cx="391068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29720" y="3508200"/>
            <a:ext cx="8013960" cy="21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2127F-EACF-4894-AC5B-B2B6B27596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3845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9720" y="1123920"/>
            <a:ext cx="801396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1384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849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6600"/>
              </a:buClr>
              <a:buSzPct val="10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e51837"/>
              </a:buClr>
              <a:buSzPct val="9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3562"/>
              </a:buClr>
              <a:buSzPct val="8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3562"/>
              </a:buClr>
              <a:buSzPct val="8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2" name="Line 7"/>
          <p:cNvSpPr/>
          <p:nvPr/>
        </p:nvSpPr>
        <p:spPr>
          <a:xfrm>
            <a:off x="441360" y="968400"/>
            <a:ext cx="8307360" cy="0"/>
          </a:xfrm>
          <a:prstGeom prst="line">
            <a:avLst/>
          </a:prstGeom>
          <a:ln w="25560">
            <a:solidFill>
              <a:srgbClr val="002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Line 9"/>
          <p:cNvSpPr/>
          <p:nvPr/>
        </p:nvSpPr>
        <p:spPr>
          <a:xfrm>
            <a:off x="287280" y="6154560"/>
            <a:ext cx="8553600" cy="0"/>
          </a:xfrm>
          <a:prstGeom prst="line">
            <a:avLst/>
          </a:prstGeom>
          <a:ln w="9360">
            <a:solidFill>
              <a:srgbClr val="0035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362440" y="6324120"/>
            <a:ext cx="554040" cy="36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2d6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C43E-45B0-4CA2-82CD-4ED04C391951}" type="slidenum">
              <a:rPr b="0" lang="en-US" sz="1600" spc="-1" strike="noStrike">
                <a:solidFill>
                  <a:srgbClr val="002d62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127160" y="624204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220680" y="6188040"/>
            <a:ext cx="779400" cy="6145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793880" y="6227640"/>
            <a:ext cx="549360" cy="54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5440" y="1528920"/>
            <a:ext cx="2344680" cy="484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sldNum" idx="2"/>
          </p:nvPr>
        </p:nvSpPr>
        <p:spPr>
          <a:xfrm>
            <a:off x="8362440" y="6324120"/>
            <a:ext cx="554040" cy="36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2d6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546B-3B5B-4071-89F3-BFB70F8CC1DB}" type="slidenum">
              <a:rPr b="0" lang="en-US" sz="1600" spc="-1" strike="noStrike">
                <a:solidFill>
                  <a:srgbClr val="002d62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852480" y="239760"/>
            <a:ext cx="1395360" cy="1395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138480" y="318960"/>
            <a:ext cx="2513160" cy="197964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6010200" y="271440"/>
            <a:ext cx="2530440" cy="1785960"/>
            <a:chOff x="6010200" y="271440"/>
            <a:chExt cx="2530440" cy="1785960"/>
          </a:xfrm>
        </p:grpSpPr>
        <p:pic>
          <p:nvPicPr>
            <p:cNvPr id="49" name="" descr=""/>
            <p:cNvPicPr/>
            <p:nvPr/>
          </p:nvPicPr>
          <p:blipFill>
            <a:blip r:embed="rId5"/>
            <a:stretch/>
          </p:blipFill>
          <p:spPr>
            <a:xfrm>
              <a:off x="6010200" y="1596960"/>
              <a:ext cx="253044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6"/>
            <a:stretch/>
          </p:blipFill>
          <p:spPr>
            <a:xfrm>
              <a:off x="6550200" y="271440"/>
              <a:ext cx="1406520" cy="140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511200" y="2219400"/>
            <a:ext cx="786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3845"/>
                </a:solidFill>
                <a:latin typeface="Century Gothic"/>
              </a:rPr>
              <a:t>Notre Dame extended Research Community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25440" y="2916000"/>
            <a:ext cx="8531280" cy="12600"/>
          </a:xfrm>
          <a:prstGeom prst="line">
            <a:avLst/>
          </a:prstGeom>
          <a:ln w="25560">
            <a:solidFill>
              <a:srgbClr val="013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franmonks.com/families/hello/436447/1024/Anna%20031-2005.05.09-19.03.21.jpg" TargetMode="External"/><Relationship Id="rId3" Type="http://schemas.openxmlformats.org/officeDocument/2006/relationships/image" Target="../media/image21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nanotech-now.com/.../antonio-siber.htm" TargetMode="External"/><Relationship Id="rId3" Type="http://schemas.openxmlformats.org/officeDocument/2006/relationships/hyperlink" Target="http://www.nanotech-now.com/.../antonio-siber.htm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www.ieap.uni-kiel.de/" TargetMode="External"/><Relationship Id="rId3" Type="http://schemas.openxmlformats.org/officeDocument/2006/relationships/hyperlink" Target="http://www.renault.com/" TargetMode="External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http://nano.tm.agilent.com/" TargetMode="External"/><Relationship Id="rId3" Type="http://schemas.openxmlformats.org/officeDocument/2006/relationships/hyperlink" Target="http://nano.tm.agilent.com/" TargetMode="External"/><Relationship Id="rId4" Type="http://schemas.openxmlformats.org/officeDocument/2006/relationships/image" Target="../media/image29.jpeg"/><Relationship Id="rId5" Type="http://schemas.openxmlformats.org/officeDocument/2006/relationships/image" Target="../media/image30.wmf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hyperlink" Target="http://www.almaden.ibm.com/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uvabcs.com/uvlight-typical.php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3480" y="3216240"/>
            <a:ext cx="8405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d62"/>
                </a:solidFill>
                <a:latin typeface="Century Gothic"/>
              </a:rPr>
              <a:t>From the Human Eye Down to Microscopes at the Nano-Scale</a:t>
            </a:r>
            <a:endParaRPr b="0" lang="en-US" sz="4000" spc="-1" strike="noStrike">
              <a:solidFill>
                <a:srgbClr val="002d62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300480" y="4529160"/>
            <a:ext cx="5462640" cy="175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49a8"/>
                </a:solidFill>
                <a:latin typeface="Century Gothic"/>
              </a:rPr>
              <a:t>Michael Crocker</a:t>
            </a:r>
            <a:endParaRPr b="0" lang="en-US" sz="2000" spc="-1" strike="noStrike">
              <a:solidFill>
                <a:srgbClr val="002d6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49a8"/>
                </a:solidFill>
                <a:latin typeface="Century Gothic"/>
              </a:rPr>
              <a:t>Valerie Goss</a:t>
            </a:r>
            <a:endParaRPr b="0" lang="en-US" sz="2000" spc="-1" strike="noStrike">
              <a:solidFill>
                <a:srgbClr val="002d6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49a8"/>
                </a:solidFill>
                <a:latin typeface="Century Gothic"/>
              </a:rPr>
              <a:t>Pat Mooney</a:t>
            </a:r>
            <a:endParaRPr b="0" lang="en-US" sz="2000" spc="-1" strike="noStrike">
              <a:solidFill>
                <a:srgbClr val="002d6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49a8"/>
                </a:solidFill>
                <a:latin typeface="Century Gothic"/>
              </a:rPr>
              <a:t>Rebecca Quardokus</a:t>
            </a:r>
            <a:endParaRPr b="0" lang="en-US" sz="2000" spc="-1" strike="noStrike">
              <a:solidFill>
                <a:srgbClr val="002d6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42D46-9BE5-4780-865C-1516CA4AA2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35080" y="250920"/>
            <a:ext cx="6751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3845"/>
                </a:solidFill>
                <a:latin typeface="Century Gothic"/>
              </a:rPr>
              <a:t>Electron Beam Column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600280" y="5850000"/>
            <a:ext cx="632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562"/>
                </a:solidFill>
                <a:latin typeface="Century Gothic"/>
              </a:rPr>
              <a:t>http://bioweb.usu.edu/emlab/TEM-SEM%20Teaching/How%20SEM%20works.html</a:t>
            </a:r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25440" y="950760"/>
            <a:ext cx="3413160" cy="51292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003480" y="1179360"/>
            <a:ext cx="58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3845"/>
                </a:solidFill>
                <a:latin typeface="Century Gothic"/>
              </a:rPr>
              <a:t>Beam created from heated filament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43160" y="1805040"/>
            <a:ext cx="5580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3845"/>
                </a:solidFill>
                <a:latin typeface="Century Gothic"/>
              </a:rPr>
              <a:t>Beam travels through a vacuum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08240" y="2508120"/>
            <a:ext cx="5580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3845"/>
                </a:solidFill>
                <a:latin typeface="Century Gothic"/>
              </a:rPr>
              <a:t>Electro-magnetic fields act as lense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51360" y="4249800"/>
            <a:ext cx="436392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3845"/>
                </a:solidFill>
                <a:latin typeface="Century Gothic"/>
              </a:rPr>
              <a:t>Scattered and “secondary” electrons are detected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065480" y="3200400"/>
            <a:ext cx="43642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3845"/>
                </a:solidFill>
                <a:latin typeface="Century Gothic"/>
              </a:rPr>
              <a:t>Electron beam hits the sample in a precise location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27320" y="5319720"/>
            <a:ext cx="4364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3845"/>
                </a:solidFill>
                <a:latin typeface="Century Gothic"/>
              </a:rPr>
              <a:t>Beam scans back and forth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DAD1A-D130-41E6-9A9A-9246C6BD4D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595440" y="250920"/>
            <a:ext cx="789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3845"/>
                </a:solidFill>
                <a:latin typeface="Century Gothic"/>
              </a:rPr>
              <a:t>Electrons Hit Surface and Detection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00280" y="5850000"/>
            <a:ext cx="593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562"/>
                </a:solidFill>
                <a:latin typeface="Century Gothic"/>
              </a:rPr>
              <a:t>http://www4.nau.edu/microanalysis/Microprobe-SEM/Signals.html</a:t>
            </a:r>
            <a:endParaRPr b="1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746520" y="2701800"/>
            <a:ext cx="5346720" cy="29577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7240" y="1211400"/>
            <a:ext cx="3713040" cy="46767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928960" y="1179360"/>
            <a:ext cx="6215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3845"/>
                </a:solidFill>
                <a:latin typeface="Century Gothic"/>
              </a:rPr>
              <a:t>Primary electrons come from the beam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55920" y="1844640"/>
            <a:ext cx="40737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3845"/>
                </a:solidFill>
                <a:latin typeface="Century Gothic"/>
              </a:rPr>
              <a:t>Some scatter back, </a:t>
            </a:r>
            <a:br>
              <a:rPr sz="2400"/>
            </a:br>
            <a:r>
              <a:rPr b="0" lang="en-US" sz="2400" spc="-1" strike="noStrike">
                <a:solidFill>
                  <a:srgbClr val="013845"/>
                </a:solidFill>
                <a:latin typeface="Century Gothic"/>
              </a:rPr>
              <a:t>others dislodge electron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FB234-D85B-4BB4-AEA4-6AF890181A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95440" y="250920"/>
            <a:ext cx="7891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3845"/>
                </a:solidFill>
                <a:latin typeface="Century Gothic"/>
              </a:rPr>
              <a:t>Example Image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74960" y="6377040"/>
            <a:ext cx="509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562"/>
                </a:solidFill>
                <a:latin typeface="Century Gothic"/>
              </a:rPr>
              <a:t>http://gsc.nrcan.gc.ca/labs/ebeam/sem_gallery_e.php</a:t>
            </a:r>
            <a:endParaRPr b="1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74840" y="1058760"/>
            <a:ext cx="2647800" cy="19893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483080" y="1020600"/>
            <a:ext cx="4148280" cy="31165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461880" y="3098880"/>
            <a:ext cx="3884760" cy="29527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6273720" y="4213080"/>
            <a:ext cx="2421000" cy="183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C6518-AA58-4263-B765-41C293070D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3845"/>
                </a:solidFill>
                <a:latin typeface="Century Gothic"/>
              </a:rPr>
              <a:t>Atomic Force Microscope</a:t>
            </a:r>
            <a:endParaRPr b="0" lang="en-US" sz="40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Valerie Goss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2CE6A-0BF6-4D68-9876-C814E82BB0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rcRect l="0" t="18510" r="0" b="22358"/>
          <a:stretch/>
        </p:blipFill>
        <p:spPr>
          <a:xfrm>
            <a:off x="4570560" y="3251160"/>
            <a:ext cx="3941640" cy="23306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>
            <a:hlinkClick r:id="rId2"/>
          </p:cNvPr>
          <p:cNvPicPr/>
          <p:nvPr/>
        </p:nvPicPr>
        <p:blipFill>
          <a:blip r:embed="rId3"/>
          <a:srcRect l="4914" t="7599" r="5943" b="8312"/>
          <a:stretch/>
        </p:blipFill>
        <p:spPr>
          <a:xfrm>
            <a:off x="393840" y="2982960"/>
            <a:ext cx="4378320" cy="29527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26880" y="176040"/>
            <a:ext cx="8488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3845"/>
                </a:solidFill>
                <a:latin typeface="Century Gothic"/>
              </a:rPr>
              <a:t>What is the AFM?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4199040" y="1752480"/>
            <a:ext cx="1143000" cy="12193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094360" y="1157400"/>
            <a:ext cx="3841560" cy="981000"/>
          </a:xfrm>
          <a:prstGeom prst="wedgeRoundRectCallout">
            <a:avLst>
              <a:gd name="adj1" fmla="val -52810"/>
              <a:gd name="adj2" fmla="val 75888"/>
              <a:gd name="adj3" fmla="val 16667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02080" y="1360440"/>
            <a:ext cx="341496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3845"/>
                </a:solidFill>
                <a:latin typeface="Century Gothic"/>
              </a:rPr>
              <a:t>We can sense with our hands by touching.</a:t>
            </a:r>
            <a:r>
              <a:rPr b="0" lang="en-US" sz="3200" spc="-1" strike="noStrike">
                <a:solidFill>
                  <a:srgbClr val="013845"/>
                </a:solidFill>
                <a:latin typeface="Century Gothic"/>
              </a:rPr>
              <a:t> 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5080" y="1333440"/>
            <a:ext cx="4192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3845"/>
                </a:solidFill>
                <a:latin typeface="Century Gothic"/>
              </a:rPr>
              <a:t>An analogue!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E5F45-2707-4185-9918-5DF1608D77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276720" y="1143000"/>
            <a:ext cx="2555640" cy="2556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495440" y="4191120"/>
            <a:ext cx="1781280" cy="17809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105520" y="4191120"/>
            <a:ext cx="1857240" cy="18572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93560" y="250920"/>
            <a:ext cx="8169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3845"/>
                </a:solidFill>
                <a:latin typeface="Century Gothic"/>
              </a:rPr>
              <a:t>AFM cantilever and AFM tips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07400" y="57387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562"/>
                </a:solidFill>
                <a:latin typeface="Century Gothic"/>
              </a:rPr>
              <a:t>www.veeco.com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97D97-7D08-45F0-9B31-CCDDDC58CD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7628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3845"/>
                </a:solidFill>
                <a:latin typeface="Century Gothic"/>
              </a:rPr>
              <a:t>The powerful, versatile AFM</a:t>
            </a:r>
            <a:endParaRPr b="0" lang="en-US" sz="4000" spc="-1" strike="noStrike">
              <a:solidFill>
                <a:srgbClr val="013845"/>
              </a:solidFill>
              <a:latin typeface="Century Gothic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570120" y="1679400"/>
            <a:ext cx="5380200" cy="40356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606920" y="4730760"/>
            <a:ext cx="16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562"/>
                </a:solidFill>
                <a:latin typeface="Century Gothic"/>
              </a:rPr>
              <a:t>~30 um scan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38320" y="5730120"/>
            <a:ext cx="6205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Century Gothic"/>
                <a:hlinkClick r:id="rId2"/>
              </a:rPr>
              <a:t>www.nanotech-now.com</a:t>
            </a:r>
            <a:r>
              <a:rPr b="0" lang="en-US" sz="1600" spc="-1" strike="noStrike" u="sng">
                <a:solidFill>
                  <a:srgbClr val="0066ff"/>
                </a:solidFill>
                <a:uFillTx/>
                <a:latin typeface="Century Gothic"/>
                <a:hlinkClick r:id="rId3"/>
              </a:rPr>
              <a:t>/.../antonio-siber.htm</a:t>
            </a:r>
            <a:r>
              <a:rPr b="0" lang="en-US" sz="1600" spc="-1" strike="noStrike">
                <a:solidFill>
                  <a:srgbClr val="003562"/>
                </a:solidFill>
                <a:latin typeface="Century Gothic"/>
              </a:rPr>
              <a:t> Aug 27, 2009 </a:t>
            </a: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7040" y="1492200"/>
            <a:ext cx="272736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562"/>
                </a:solidFill>
                <a:latin typeface="Century Gothic"/>
              </a:rPr>
              <a:t>      </a:t>
            </a:r>
            <a:r>
              <a:rPr b="0" i="1" lang="en-US" sz="2000" spc="-1" strike="noStrike">
                <a:solidFill>
                  <a:srgbClr val="003562"/>
                </a:solidFill>
                <a:latin typeface="Century Gothic"/>
              </a:rPr>
              <a:t>Resolutions: 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562"/>
                </a:solidFill>
                <a:latin typeface="Century Gothic"/>
              </a:rPr>
              <a:t>X and Y  2 -10 nm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562"/>
                </a:solidFill>
                <a:latin typeface="Century Gothic"/>
              </a:rPr>
              <a:t>Z            0.05 nm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63360" y="2525760"/>
            <a:ext cx="379548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562"/>
                </a:solidFill>
                <a:latin typeface="Century Gothic"/>
              </a:rPr>
              <a:t>Microstructure of solids:</a:t>
            </a:r>
            <a:r>
              <a:rPr b="0" lang="en-US" sz="2000" spc="-1" strike="noStrike">
                <a:solidFill>
                  <a:srgbClr val="003562"/>
                </a:solidFill>
                <a:latin typeface="Century Gothic"/>
              </a:rPr>
              <a:t> 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562"/>
                </a:solidFill>
                <a:latin typeface="Century Gothic"/>
              </a:rPr>
              <a:t>CD, glass beads, circuits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562"/>
                </a:solidFill>
                <a:latin typeface="Century Gothic"/>
              </a:rPr>
              <a:t>Biological samples:</a:t>
            </a:r>
            <a:r>
              <a:rPr b="0" lang="en-US" sz="1800" spc="-1" strike="noStrike">
                <a:solidFill>
                  <a:srgbClr val="003562"/>
                </a:solidFill>
                <a:latin typeface="Century Gothic"/>
              </a:rPr>
              <a:t>  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562"/>
                </a:solidFill>
                <a:latin typeface="Century Gothic"/>
              </a:rPr>
              <a:t>skin cross section, viruses, bacteria, blood, DNA and RNA</a:t>
            </a:r>
            <a:r>
              <a:rPr b="0" lang="en-US" sz="1800" spc="-1" strike="noStrike">
                <a:solidFill>
                  <a:srgbClr val="003562"/>
                </a:solidFill>
                <a:latin typeface="Arial"/>
              </a:rPr>
              <a:t> </a:t>
            </a:r>
            <a:br>
              <a:rPr sz="1800"/>
            </a:b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554280" y="4915080"/>
            <a:ext cx="960480" cy="0"/>
          </a:xfrm>
          <a:prstGeom prst="line">
            <a:avLst/>
          </a:prstGeom>
          <a:ln w="9360">
            <a:solidFill>
              <a:srgbClr val="0035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14960" y="4911840"/>
            <a:ext cx="2819520" cy="0"/>
          </a:xfrm>
          <a:prstGeom prst="line">
            <a:avLst/>
          </a:prstGeom>
          <a:ln w="9360">
            <a:solidFill>
              <a:srgbClr val="0035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2AB22-BCC0-44A0-9B62-4BB4130D0D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73040" y="2130120"/>
            <a:ext cx="822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3845"/>
                </a:solidFill>
                <a:latin typeface="Century Gothic"/>
              </a:rPr>
              <a:t>Scanning Tunneling Microscope</a:t>
            </a:r>
            <a:endParaRPr b="0" lang="en-US" sz="40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Rebecca Quardokus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8FD04-F05C-407D-908F-BAE73939D2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3845"/>
                </a:solidFill>
                <a:latin typeface="Century Gothic"/>
              </a:rPr>
              <a:t>Scanning Tunneling Microscopy (STM)</a:t>
            </a: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29720" y="1123920"/>
            <a:ext cx="393084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1384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3845"/>
                </a:solidFill>
                <a:latin typeface="Century Gothic"/>
              </a:rPr>
              <a:t>Electrons tunnel!</a:t>
            </a:r>
            <a:endParaRPr b="0" lang="en-US" sz="2400" spc="-1" strike="noStrike">
              <a:solidFill>
                <a:srgbClr val="013845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845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845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845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845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845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845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845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845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1384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3845"/>
                </a:solidFill>
                <a:latin typeface="Century Gothic"/>
              </a:rPr>
              <a:t>With a higher probability than cars </a:t>
            </a:r>
            <a:endParaRPr b="0" lang="en-US" sz="24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12840" y="1123920"/>
            <a:ext cx="393084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1384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3845"/>
                </a:solidFill>
                <a:latin typeface="Century Gothic"/>
              </a:rPr>
              <a:t>STM measures the current created by tunneling electrons</a:t>
            </a:r>
            <a:endParaRPr b="0" lang="en-US" sz="2400" spc="-1" strike="noStrike">
              <a:solidFill>
                <a:srgbClr val="013845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845"/>
              </a:solidFill>
              <a:latin typeface="Century Gothic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118120" y="2676600"/>
            <a:ext cx="3103560" cy="26067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637080" y="6097680"/>
            <a:ext cx="517356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562"/>
                </a:solidFill>
                <a:latin typeface="Century Gothic"/>
              </a:rPr>
              <a:t>Images courtesy of</a:t>
            </a:r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66ff"/>
                </a:solidFill>
                <a:uFillTx/>
                <a:latin typeface="Century Gothic"/>
                <a:hlinkClick r:id="rId2"/>
              </a:rPr>
              <a:t>http://www.ieap.uni-kiel.de</a:t>
            </a:r>
            <a:r>
              <a:rPr b="0" lang="en-US" sz="1200" spc="-1" strike="noStrike" u="sng">
                <a:solidFill>
                  <a:srgbClr val="003562"/>
                </a:solidFill>
                <a:uFillTx/>
                <a:latin typeface="Century Gothic"/>
              </a:rPr>
              <a:t> and </a:t>
            </a:r>
            <a:r>
              <a:rPr b="0" lang="en-US" sz="1200" spc="-1" strike="noStrike" u="sng">
                <a:solidFill>
                  <a:srgbClr val="0066ff"/>
                </a:solidFill>
                <a:uFillTx/>
                <a:latin typeface="Century Gothic"/>
                <a:hlinkClick r:id="rId3"/>
              </a:rPr>
              <a:t>www.renault.com</a:t>
            </a:r>
            <a:r>
              <a:rPr b="0" lang="en-US" sz="1200" spc="-1" strike="noStrike" u="sng">
                <a:solidFill>
                  <a:srgbClr val="003562"/>
                </a:solidFill>
                <a:uFillTx/>
                <a:latin typeface="Century Gothic"/>
              </a:rPr>
              <a:t> </a:t>
            </a:r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6600" y="4187880"/>
            <a:ext cx="3936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905040" y="2070000"/>
            <a:ext cx="3367080" cy="2246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CA613-F6E8-4E25-9F53-74B3B397B6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3845"/>
                </a:solidFill>
                <a:latin typeface="Century Gothic"/>
              </a:rPr>
              <a:t>Scanning Tunneling Microscopy (STM)</a:t>
            </a: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09680" y="2060640"/>
            <a:ext cx="4195800" cy="25779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637080" y="6097680"/>
            <a:ext cx="465912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562"/>
                </a:solidFill>
                <a:latin typeface="Century Gothic"/>
              </a:rPr>
              <a:t>Image courtesy of</a:t>
            </a:r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66ff"/>
                </a:solidFill>
                <a:uFillTx/>
                <a:latin typeface="Century Gothic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66ff"/>
                </a:solidFill>
                <a:uFillTx/>
                <a:latin typeface="Century Gothic"/>
                <a:hlinkClick r:id="rId3"/>
              </a:rPr>
              <a:t>nano.tm.agilent.com</a:t>
            </a:r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4923000" y="1319040"/>
            <a:ext cx="2130120" cy="13716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6827760" y="1487520"/>
            <a:ext cx="1013040" cy="10285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5212440" y="963720"/>
            <a:ext cx="30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562"/>
                </a:solidFill>
                <a:latin typeface="Century Gothic"/>
              </a:rPr>
              <a:t>C60 “Bucky Balls”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43" name="" descr="C60 adsorbed on Au(111)"/>
          <p:cNvPicPr/>
          <p:nvPr/>
        </p:nvPicPr>
        <p:blipFill>
          <a:blip r:embed="rId6"/>
          <a:stretch/>
        </p:blipFill>
        <p:spPr>
          <a:xfrm>
            <a:off x="5424480" y="2644920"/>
            <a:ext cx="2457360" cy="24573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4354560" y="5197320"/>
            <a:ext cx="467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562"/>
                </a:solidFill>
                <a:latin typeface="Century Gothic"/>
              </a:rPr>
              <a:t>Each C60 diameter is ~ 10Å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562"/>
                </a:solidFill>
                <a:latin typeface="Century Gothic"/>
              </a:rPr>
              <a:t>1 Å = 1x 10</a:t>
            </a:r>
            <a:r>
              <a:rPr b="0" lang="en-US" sz="2800" spc="-1" strike="noStrike" baseline="30000">
                <a:solidFill>
                  <a:srgbClr val="003562"/>
                </a:solidFill>
                <a:latin typeface="Century Gothic"/>
              </a:rPr>
              <a:t>-10</a:t>
            </a:r>
            <a:r>
              <a:rPr b="0" lang="en-US" sz="2800" spc="-1" strike="noStrike">
                <a:solidFill>
                  <a:srgbClr val="003562"/>
                </a:solidFill>
                <a:latin typeface="Century Gothic"/>
              </a:rPr>
              <a:t> m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623EB-C026-46CD-BB22-1AFB3ACBC0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1000" y="-360"/>
            <a:ext cx="83106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3845"/>
                </a:solidFill>
                <a:latin typeface="Century Gothic"/>
              </a:rPr>
              <a:t>Outline</a:t>
            </a:r>
            <a:endParaRPr b="0" lang="en-US" sz="40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90160" y="1112400"/>
            <a:ext cx="84596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1384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Discussion of Optics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849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9a8"/>
                </a:solidFill>
                <a:latin typeface="Century Gothic"/>
              </a:rPr>
              <a:t>History</a:t>
            </a:r>
            <a:endParaRPr b="0" lang="en-US" sz="2400" spc="-1" strike="noStrike">
              <a:solidFill>
                <a:srgbClr val="0849a8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849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9a8"/>
                </a:solidFill>
                <a:latin typeface="Century Gothic"/>
              </a:rPr>
              <a:t>Ranges of Visual Resolution</a:t>
            </a:r>
            <a:endParaRPr b="0" lang="en-US" sz="2400" spc="-1" strike="noStrike">
              <a:solidFill>
                <a:srgbClr val="0849a8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1384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Scanning Electron Microscopy (SEM) 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849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9a8"/>
                </a:solidFill>
                <a:latin typeface="Century Gothic"/>
              </a:rPr>
              <a:t>Fundamentals</a:t>
            </a:r>
            <a:endParaRPr b="0" lang="en-US" sz="2400" spc="-1" strike="noStrike">
              <a:solidFill>
                <a:srgbClr val="0849a8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849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49a8"/>
                </a:solidFill>
                <a:latin typeface="Century Gothic"/>
              </a:rPr>
              <a:t>Operation Scheme</a:t>
            </a:r>
            <a:endParaRPr b="0" lang="en-US" sz="2400" spc="-1" strike="noStrike">
              <a:solidFill>
                <a:srgbClr val="0849a8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1384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Atomic Force Microscopy (AFM)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1384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Scanning Tunneling Microscopy (STM)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B5394-D543-471C-88BD-E31CF8C9B2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3845"/>
                </a:solidFill>
                <a:latin typeface="Century Gothic"/>
              </a:rPr>
              <a:t>Scanning Tunneling Microscopy (STM)</a:t>
            </a: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89080" y="1130400"/>
            <a:ext cx="5076720" cy="17478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5388120" y="2557440"/>
            <a:ext cx="3485880" cy="34956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30840" y="2948040"/>
            <a:ext cx="28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562"/>
                </a:solidFill>
                <a:latin typeface="Century Gothic"/>
              </a:rPr>
              <a:t>Xenon on Nickel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13880" y="5500800"/>
            <a:ext cx="272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562"/>
                </a:solidFill>
                <a:latin typeface="Century Gothic"/>
              </a:rPr>
              <a:t>Iron on Copper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713040" y="6121440"/>
            <a:ext cx="4260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562"/>
                </a:solidFill>
                <a:latin typeface="Century Gothic"/>
              </a:rPr>
              <a:t>Images courtesy of </a:t>
            </a:r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66ff"/>
                </a:solidFill>
                <a:uFillTx/>
                <a:latin typeface="Century Gothic"/>
                <a:hlinkClick r:id="rId3"/>
              </a:rPr>
              <a:t>http://www.almaden.ibm.com</a:t>
            </a:r>
            <a:r>
              <a:rPr b="0" lang="en-US" sz="1200" spc="-1" strike="noStrike" u="sng">
                <a:solidFill>
                  <a:srgbClr val="003562"/>
                </a:solidFill>
                <a:uFillTx/>
                <a:latin typeface="Century Gothic"/>
              </a:rPr>
              <a:t> </a:t>
            </a:r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173160" y="4432320"/>
            <a:ext cx="1143000" cy="12193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068480" y="3836880"/>
            <a:ext cx="4081320" cy="981360"/>
          </a:xfrm>
          <a:prstGeom prst="wedgeRoundRectCallout">
            <a:avLst>
              <a:gd name="adj1" fmla="val -52333"/>
              <a:gd name="adj2" fmla="val 75888"/>
              <a:gd name="adj3" fmla="val 16667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85760" y="4040280"/>
            <a:ext cx="400212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3845"/>
                </a:solidFill>
                <a:latin typeface="Century Gothic"/>
              </a:rPr>
              <a:t>Individual atoms?  That’s small!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66E5E-47D1-4980-98FA-DC137D9570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33360" y="312480"/>
            <a:ext cx="854712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I’ll show you more in the microscope laboratory!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743200" y="1768320"/>
            <a:ext cx="3657600" cy="364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F12B4-1B4E-4DA7-96C4-34CFA2F0FF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3845"/>
                </a:solidFill>
                <a:latin typeface="Century Gothic"/>
              </a:rPr>
              <a:t>Scanning Bunny</a:t>
            </a:r>
            <a:endParaRPr b="0" lang="en-US" sz="4000" spc="-1" strike="noStrike">
              <a:solidFill>
                <a:srgbClr val="013845"/>
              </a:solidFill>
              <a:latin typeface="Century Gothic"/>
            </a:endParaRPr>
          </a:p>
        </p:txBody>
      </p:sp>
      <p:pic>
        <p:nvPicPr>
          <p:cNvPr id="101" name="Rectangle 5" descr=""/>
          <p:cNvPicPr/>
          <p:nvPr/>
        </p:nvPicPr>
        <p:blipFill>
          <a:blip r:embed="rId1"/>
          <a:stretch/>
        </p:blipFill>
        <p:spPr>
          <a:xfrm>
            <a:off x="3321000" y="1666800"/>
            <a:ext cx="1830600" cy="1792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28560" y="3757680"/>
            <a:ext cx="791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562"/>
                </a:solidFill>
                <a:latin typeface="Century Gothic"/>
              </a:rPr>
              <a:t>A distant cousin of the energizer bunny who helps to explain nanoscience concepts.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55920" y="5072040"/>
            <a:ext cx="56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WELCOME PENN HIGH SCHOOL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6146C-F0BB-473B-8972-EB18283EED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1280" y="1600200"/>
            <a:ext cx="114300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245200" y="-380880"/>
            <a:ext cx="3898800" cy="4800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762120" y="26478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767560" y="4549680"/>
            <a:ext cx="3124080" cy="2103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flipH="1">
            <a:off x="2133360" y="1371600"/>
            <a:ext cx="4800600" cy="175248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057040" y="1371600"/>
            <a:ext cx="5638680" cy="259092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962520"/>
            <a:ext cx="5105160" cy="160020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3124080"/>
            <a:ext cx="5029200" cy="236232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1148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562"/>
                </a:solidFill>
                <a:latin typeface="Arial"/>
              </a:rPr>
              <a:t>target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24480" y="6094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562"/>
                </a:solidFill>
                <a:latin typeface="Arial"/>
              </a:rPr>
              <a:t>source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66960" y="1004760"/>
            <a:ext cx="3429000" cy="981360"/>
          </a:xfrm>
          <a:prstGeom prst="wedgeRoundRectCallout">
            <a:avLst>
              <a:gd name="adj1" fmla="val -52777"/>
              <a:gd name="adj2" fmla="val 75888"/>
              <a:gd name="adj3" fmla="val 16667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280" y="1182600"/>
            <a:ext cx="347652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3845"/>
                </a:solidFill>
                <a:latin typeface="Century Gothic"/>
              </a:rPr>
              <a:t>How do we see an object?</a:t>
            </a:r>
            <a:r>
              <a:rPr b="0" lang="en-US" sz="3200" spc="-1" strike="noStrike">
                <a:solidFill>
                  <a:srgbClr val="013845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116" name=""/>
          <p:cNvSpPr/>
          <p:nvPr/>
        </p:nvSpPr>
        <p:spPr>
          <a:xfrm>
            <a:off x="3743280" y="5072040"/>
            <a:ext cx="25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562"/>
                </a:solidFill>
                <a:latin typeface="Arial"/>
              </a:rPr>
              <a:t>detector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00320" y="5686560"/>
            <a:ext cx="42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562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3562"/>
                </a:solidFill>
                <a:latin typeface="Arial"/>
              </a:rPr>
              <a:t>and often you’ll need a lens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C700E-EC35-4FFE-8B5F-2086FFC04C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356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3845"/>
                </a:solidFill>
                <a:latin typeface="Century Gothic"/>
              </a:rPr>
              <a:t>Requirements of Vision</a:t>
            </a:r>
            <a:endParaRPr b="0" lang="en-US" sz="40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1384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3845"/>
                </a:solidFill>
                <a:latin typeface="Century Gothic"/>
              </a:rPr>
              <a:t>The light that reaches the eye must have a color between red (760nm) and blue (400nm) – or a mixture of these colors</a:t>
            </a:r>
            <a:endParaRPr b="0" lang="en-US" sz="2400" spc="-1" strike="noStrike">
              <a:solidFill>
                <a:srgbClr val="013845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845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3845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013845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013845"/>
                </a:solidFill>
                <a:latin typeface="Century Gothic"/>
              </a:rPr>
              <a:t>	</a:t>
            </a:r>
            <a:endParaRPr b="0" lang="en-US" sz="1800" spc="-1" strike="noStrike">
              <a:solidFill>
                <a:srgbClr val="013845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845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845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1384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3845"/>
                </a:solidFill>
                <a:latin typeface="Century Gothic"/>
              </a:rPr>
              <a:t>The light that reaches the eye must be sufficiently bright – usually requires a sufficiently bright source</a:t>
            </a:r>
            <a:endParaRPr b="0" lang="en-US" sz="2400" spc="-1" strike="noStrike">
              <a:solidFill>
                <a:srgbClr val="013845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845"/>
              </a:solidFill>
              <a:latin typeface="Century Gothic"/>
            </a:endParaRPr>
          </a:p>
        </p:txBody>
      </p:sp>
      <p:pic>
        <p:nvPicPr>
          <p:cNvPr id="120" name="" descr="ultraviolet (UV) radiation, to visible light, to infrared radiation (IR)"/>
          <p:cNvPicPr/>
          <p:nvPr/>
        </p:nvPicPr>
        <p:blipFill>
          <a:blip r:embed="rId1"/>
          <a:stretch/>
        </p:blipFill>
        <p:spPr>
          <a:xfrm>
            <a:off x="762120" y="2700360"/>
            <a:ext cx="7696080" cy="22096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429000" y="3124080"/>
            <a:ext cx="144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562"/>
                </a:solidFill>
                <a:latin typeface="Arial"/>
              </a:rPr>
              <a:t>visible light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4662360"/>
            <a:ext cx="20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562"/>
                </a:solidFill>
                <a:latin typeface="Arial"/>
              </a:rPr>
              <a:t>wavelength in nm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57400" y="473400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562"/>
                </a:solidFill>
                <a:latin typeface="Arial"/>
              </a:rPr>
              <a:t>400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648320"/>
            <a:ext cx="838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562"/>
                </a:solidFill>
                <a:latin typeface="Arial"/>
              </a:rPr>
              <a:t>760</a:t>
            </a:r>
            <a:endParaRPr b="1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786800" y="4705200"/>
            <a:ext cx="838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562"/>
                </a:solidFill>
                <a:latin typeface="Arial"/>
              </a:rPr>
              <a:t>3000</a:t>
            </a:r>
            <a:endParaRPr b="1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38960" y="472932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562"/>
                </a:solidFill>
                <a:latin typeface="Arial"/>
              </a:rPr>
              <a:t>760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4724280"/>
            <a:ext cx="838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562"/>
                </a:solidFill>
                <a:latin typeface="Arial"/>
              </a:rPr>
              <a:t>290</a:t>
            </a:r>
            <a:endParaRPr b="1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4724280"/>
            <a:ext cx="838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562"/>
                </a:solidFill>
                <a:latin typeface="Arial"/>
              </a:rPr>
              <a:t>320</a:t>
            </a:r>
            <a:endParaRPr b="1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43360" y="2357280"/>
            <a:ext cx="5802120" cy="3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Century Gothic"/>
                <a:hlinkClick r:id="rId2"/>
              </a:rPr>
              <a:t>www.uvabcs.com/uvlight-typical.php</a:t>
            </a:r>
            <a:r>
              <a:rPr b="0" lang="en-US" sz="1600" spc="-1" strike="noStrike">
                <a:solidFill>
                  <a:srgbClr val="013845"/>
                </a:solidFill>
                <a:latin typeface="Century Gothic"/>
              </a:rPr>
              <a:t> , August 31, 2009</a:t>
            </a: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29240" y="3586320"/>
            <a:ext cx="1043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562"/>
                </a:solidFill>
                <a:latin typeface="Arial"/>
              </a:rPr>
              <a:t>infrared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57160" y="3086280"/>
            <a:ext cx="1371600" cy="63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562"/>
                </a:solidFill>
                <a:latin typeface="Times New Roman"/>
              </a:rPr>
              <a:t>UV     UV </a:t>
            </a:r>
            <a:r>
              <a:rPr b="0" lang="en-US" sz="1400" spc="-1" strike="noStrike">
                <a:solidFill>
                  <a:srgbClr val="003562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562"/>
                </a:solidFill>
                <a:latin typeface="Times New Roman"/>
              </a:rPr>
              <a:t>UV</a:t>
            </a:r>
            <a:endParaRPr b="1" lang="en-US" sz="1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562"/>
                </a:solidFill>
                <a:latin typeface="Times New Roman"/>
              </a:rPr>
              <a:t>C         B       A</a:t>
            </a:r>
            <a:endParaRPr b="1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6817C-00BA-41E3-AD5D-CB85893DA7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0440" y="269640"/>
            <a:ext cx="77659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3845"/>
                </a:solidFill>
                <a:latin typeface="Century Gothic"/>
              </a:rPr>
              <a:t>Object and Source Matching</a:t>
            </a:r>
            <a:endParaRPr b="0" lang="en-US" sz="4000" spc="-1" strike="noStrike">
              <a:solidFill>
                <a:srgbClr val="013845"/>
              </a:solidFill>
              <a:latin typeface="Century Gothic"/>
            </a:endParaRPr>
          </a:p>
        </p:txBody>
      </p:sp>
      <p:pic>
        <p:nvPicPr>
          <p:cNvPr id="133" name="Rectangle 5" descr=""/>
          <p:cNvPicPr/>
          <p:nvPr/>
        </p:nvPicPr>
        <p:blipFill>
          <a:blip r:embed="rId1"/>
          <a:stretch/>
        </p:blipFill>
        <p:spPr>
          <a:xfrm>
            <a:off x="552600" y="1123920"/>
            <a:ext cx="8013600" cy="456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C625C-4687-42AF-BF78-B857F7B53F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1000" y="-360"/>
            <a:ext cx="83106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3845"/>
                </a:solidFill>
                <a:latin typeface="Century Gothic"/>
              </a:rPr>
              <a:t>Seeing Atomic Structure</a:t>
            </a:r>
            <a:endParaRPr b="0" lang="en-US" sz="40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130400"/>
            <a:ext cx="82296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1384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3845"/>
                </a:solidFill>
                <a:latin typeface="Century Gothic"/>
              </a:rPr>
              <a:t>Light must be about 0.1nm in wavelength to see atomic structure: x-ray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1384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3845"/>
                </a:solidFill>
                <a:latin typeface="Century Gothic"/>
              </a:rPr>
              <a:t>But our eyes can’t detect x-rays - 0.1nm light - (5000 times smaller wavelength than we can see) 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1384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3845"/>
                </a:solidFill>
                <a:latin typeface="Century Gothic"/>
              </a:rPr>
              <a:t>Option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SzPct val="105000"/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entury Gothic"/>
              </a:rPr>
              <a:t>Use x-rays and detector (to replace the eye)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SzPct val="105000"/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entury Gothic"/>
              </a:rPr>
              <a:t>Use particles (e.g. electrons) and detector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1384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3845"/>
                </a:solidFill>
                <a:latin typeface="Century Gothic"/>
              </a:rPr>
              <a:t>Electrons of the appropriate wavelength are easier to produce and direct than light – Scanning Electron Microscope (SEM)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1384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3845"/>
                </a:solidFill>
                <a:latin typeface="Century Gothic"/>
              </a:rPr>
              <a:t>Alternate imaging techniques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SzPct val="105000"/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entury Gothic"/>
              </a:rPr>
              <a:t>Atomic Force Microscope (AFM)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SzPct val="105000"/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entury Gothic"/>
              </a:rPr>
              <a:t>Scanning Tunneling Microscope (STM)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13845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18CC9-B3E0-4A64-8CB3-9E6AD82F39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3845"/>
                </a:solidFill>
                <a:latin typeface="Century Gothic"/>
              </a:rPr>
              <a:t>Scanning Electron Microscope</a:t>
            </a:r>
            <a:endParaRPr b="0" lang="en-US" sz="40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3845"/>
                </a:solidFill>
                <a:latin typeface="Century Gothic"/>
              </a:rPr>
              <a:t>Michael Crocker</a:t>
            </a:r>
            <a:endParaRPr b="0" lang="en-US" sz="2800" spc="-1" strike="noStrike">
              <a:solidFill>
                <a:srgbClr val="0138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48782-9E61-4218-A8C4-23AFBCB74F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860480" y="250920"/>
            <a:ext cx="4810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3845"/>
                </a:solidFill>
                <a:latin typeface="Century Gothic"/>
              </a:rPr>
              <a:t>Basic Idea?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4387680" y="1355760"/>
            <a:ext cx="4376880" cy="1814040"/>
            <a:chOff x="4387680" y="1355760"/>
            <a:chExt cx="4376880" cy="181404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4387680" y="1950840"/>
              <a:ext cx="114300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5283360" y="1355760"/>
              <a:ext cx="3429000" cy="981000"/>
            </a:xfrm>
            <a:prstGeom prst="wedgeRoundRectCallout">
              <a:avLst>
                <a:gd name="adj1" fmla="val -52777"/>
                <a:gd name="adj2" fmla="val 75888"/>
                <a:gd name="adj3" fmla="val 16667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288040" y="1533240"/>
              <a:ext cx="347652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3845"/>
                  </a:solidFill>
                  <a:latin typeface="Century Gothic"/>
                </a:rPr>
                <a:t>Let’s bounce something else at the surface!</a:t>
              </a:r>
              <a:endParaRPr b="1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04920" y="1300320"/>
            <a:ext cx="381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562"/>
                </a:solidFill>
                <a:latin typeface="Century Gothic"/>
              </a:rPr>
              <a:t>Animal sight and traditional microscopes collect deflected light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198960" y="3857760"/>
            <a:ext cx="1962000" cy="189540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846000" y="4745160"/>
            <a:ext cx="374400" cy="307080"/>
            <a:chOff x="846000" y="4745160"/>
            <a:chExt cx="374400" cy="307080"/>
          </a:xfrm>
        </p:grpSpPr>
        <p:sp>
          <p:nvSpPr>
            <p:cNvPr id="146" name=""/>
            <p:cNvSpPr/>
            <p:nvPr/>
          </p:nvSpPr>
          <p:spPr>
            <a:xfrm>
              <a:off x="939600" y="4832280"/>
              <a:ext cx="189000" cy="176400"/>
            </a:xfrm>
            <a:prstGeom prst="ellipse">
              <a:avLst/>
            </a:prstGeom>
            <a:solidFill>
              <a:srgbClr val="d2d8e4"/>
            </a:solidFill>
            <a:ln w="9360">
              <a:solidFill>
                <a:srgbClr val="0035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46000" y="47451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562"/>
                  </a:solidFill>
                  <a:latin typeface="Century Gothic"/>
                </a:rPr>
                <a:t>e</a:t>
              </a:r>
              <a:r>
                <a:rPr b="0" lang="en-US" sz="1400" spc="-1" strike="noStrike" baseline="30000">
                  <a:solidFill>
                    <a:srgbClr val="003562"/>
                  </a:solidFill>
                  <a:latin typeface="Century Gothic"/>
                </a:rPr>
                <a:t>-</a:t>
              </a:r>
              <a:endParaRPr b="1" lang="en-US" sz="1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60440" y="4746600"/>
            <a:ext cx="374400" cy="307080"/>
            <a:chOff x="460440" y="4746600"/>
            <a:chExt cx="374400" cy="307080"/>
          </a:xfrm>
        </p:grpSpPr>
        <p:sp>
          <p:nvSpPr>
            <p:cNvPr id="149" name=""/>
            <p:cNvSpPr/>
            <p:nvPr/>
          </p:nvSpPr>
          <p:spPr>
            <a:xfrm>
              <a:off x="554040" y="4833720"/>
              <a:ext cx="189000" cy="176400"/>
            </a:xfrm>
            <a:prstGeom prst="ellipse">
              <a:avLst/>
            </a:prstGeom>
            <a:solidFill>
              <a:srgbClr val="d2d8e4"/>
            </a:solidFill>
            <a:ln w="9360">
              <a:solidFill>
                <a:srgbClr val="0035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0440" y="474660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562"/>
                  </a:solidFill>
                  <a:latin typeface="Century Gothic"/>
                </a:rPr>
                <a:t>e</a:t>
              </a:r>
              <a:r>
                <a:rPr b="0" lang="en-US" sz="1400" spc="-1" strike="noStrike" baseline="30000">
                  <a:solidFill>
                    <a:srgbClr val="003562"/>
                  </a:solidFill>
                  <a:latin typeface="Century Gothic"/>
                </a:rPr>
                <a:t>-</a:t>
              </a:r>
              <a:endParaRPr b="1" lang="en-US" sz="1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254400" y="5678640"/>
            <a:ext cx="374400" cy="307080"/>
            <a:chOff x="3254400" y="5678640"/>
            <a:chExt cx="374400" cy="307080"/>
          </a:xfrm>
        </p:grpSpPr>
        <p:sp>
          <p:nvSpPr>
            <p:cNvPr id="152" name=""/>
            <p:cNvSpPr/>
            <p:nvPr/>
          </p:nvSpPr>
          <p:spPr>
            <a:xfrm>
              <a:off x="3348000" y="5765760"/>
              <a:ext cx="189000" cy="176400"/>
            </a:xfrm>
            <a:prstGeom prst="ellipse">
              <a:avLst/>
            </a:prstGeom>
            <a:solidFill>
              <a:srgbClr val="d2d8e4"/>
            </a:solidFill>
            <a:ln w="9360">
              <a:solidFill>
                <a:srgbClr val="0035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54400" y="567864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562"/>
                  </a:solidFill>
                  <a:latin typeface="Century Gothic"/>
                </a:rPr>
                <a:t>e</a:t>
              </a:r>
              <a:r>
                <a:rPr b="0" lang="en-US" sz="1400" spc="-1" strike="noStrike" baseline="30000">
                  <a:solidFill>
                    <a:srgbClr val="003562"/>
                  </a:solidFill>
                  <a:latin typeface="Century Gothic"/>
                </a:rPr>
                <a:t>-</a:t>
              </a:r>
              <a:endParaRPr b="1" lang="en-US" sz="1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2881440" y="3463920"/>
            <a:ext cx="374400" cy="307080"/>
            <a:chOff x="2881440" y="3463920"/>
            <a:chExt cx="374400" cy="307080"/>
          </a:xfrm>
        </p:grpSpPr>
        <p:sp>
          <p:nvSpPr>
            <p:cNvPr id="155" name=""/>
            <p:cNvSpPr/>
            <p:nvPr/>
          </p:nvSpPr>
          <p:spPr>
            <a:xfrm>
              <a:off x="2975040" y="3551040"/>
              <a:ext cx="189000" cy="176400"/>
            </a:xfrm>
            <a:prstGeom prst="ellipse">
              <a:avLst/>
            </a:prstGeom>
            <a:solidFill>
              <a:srgbClr val="d2d8e4"/>
            </a:solidFill>
            <a:ln w="9360">
              <a:solidFill>
                <a:srgbClr val="0035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81440" y="346392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562"/>
                  </a:solidFill>
                  <a:latin typeface="Century Gothic"/>
                </a:rPr>
                <a:t>e</a:t>
              </a:r>
              <a:r>
                <a:rPr b="0" lang="en-US" sz="1400" spc="-1" strike="noStrike" baseline="30000">
                  <a:solidFill>
                    <a:srgbClr val="003562"/>
                  </a:solidFill>
                  <a:latin typeface="Century Gothic"/>
                </a:rPr>
                <a:t>-</a:t>
              </a:r>
              <a:endParaRPr b="1" lang="en-US" sz="1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481120" y="3867120"/>
            <a:ext cx="374400" cy="307080"/>
            <a:chOff x="2481120" y="3867120"/>
            <a:chExt cx="374400" cy="307080"/>
          </a:xfrm>
        </p:grpSpPr>
        <p:sp>
          <p:nvSpPr>
            <p:cNvPr id="158" name=""/>
            <p:cNvSpPr/>
            <p:nvPr/>
          </p:nvSpPr>
          <p:spPr>
            <a:xfrm>
              <a:off x="2574720" y="3954240"/>
              <a:ext cx="189000" cy="176400"/>
            </a:xfrm>
            <a:prstGeom prst="ellipse">
              <a:avLst/>
            </a:prstGeom>
            <a:solidFill>
              <a:srgbClr val="d2d8e4"/>
            </a:solidFill>
            <a:ln w="9360">
              <a:solidFill>
                <a:srgbClr val="0035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481120" y="386712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562"/>
                  </a:solidFill>
                  <a:latin typeface="Century Gothic"/>
                </a:rPr>
                <a:t>e</a:t>
              </a:r>
              <a:r>
                <a:rPr b="0" lang="en-US" sz="1400" spc="-1" strike="noStrike" baseline="30000">
                  <a:solidFill>
                    <a:srgbClr val="003562"/>
                  </a:solidFill>
                  <a:latin typeface="Century Gothic"/>
                </a:rPr>
                <a:t>-</a:t>
              </a:r>
              <a:endParaRPr b="1" lang="en-US" sz="1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808360" y="5484960"/>
            <a:ext cx="374400" cy="307080"/>
            <a:chOff x="2808360" y="5484960"/>
            <a:chExt cx="374400" cy="307080"/>
          </a:xfrm>
        </p:grpSpPr>
        <p:sp>
          <p:nvSpPr>
            <p:cNvPr id="161" name=""/>
            <p:cNvSpPr/>
            <p:nvPr/>
          </p:nvSpPr>
          <p:spPr>
            <a:xfrm>
              <a:off x="2901960" y="5572080"/>
              <a:ext cx="189000" cy="176400"/>
            </a:xfrm>
            <a:prstGeom prst="ellipse">
              <a:avLst/>
            </a:prstGeom>
            <a:solidFill>
              <a:srgbClr val="d2d8e4"/>
            </a:solidFill>
            <a:ln w="9360">
              <a:solidFill>
                <a:srgbClr val="0035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08360" y="54849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562"/>
                  </a:solidFill>
                  <a:latin typeface="Century Gothic"/>
                </a:rPr>
                <a:t>e</a:t>
              </a:r>
              <a:r>
                <a:rPr b="0" lang="en-US" sz="1400" spc="-1" strike="noStrike" baseline="30000">
                  <a:solidFill>
                    <a:srgbClr val="003562"/>
                  </a:solidFill>
                  <a:latin typeface="Century Gothic"/>
                </a:rPr>
                <a:t>-</a:t>
              </a:r>
              <a:endParaRPr b="1" lang="en-US" sz="1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751200" y="5173560"/>
            <a:ext cx="374400" cy="307080"/>
            <a:chOff x="3751200" y="5173560"/>
            <a:chExt cx="374400" cy="307080"/>
          </a:xfrm>
        </p:grpSpPr>
        <p:sp>
          <p:nvSpPr>
            <p:cNvPr id="164" name=""/>
            <p:cNvSpPr/>
            <p:nvPr/>
          </p:nvSpPr>
          <p:spPr>
            <a:xfrm>
              <a:off x="3844800" y="5260680"/>
              <a:ext cx="189000" cy="176400"/>
            </a:xfrm>
            <a:prstGeom prst="ellipse">
              <a:avLst/>
            </a:prstGeom>
            <a:solidFill>
              <a:srgbClr val="d2d8e4"/>
            </a:solidFill>
            <a:ln w="9360">
              <a:solidFill>
                <a:srgbClr val="0035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51200" y="51735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562"/>
                  </a:solidFill>
                  <a:latin typeface="Century Gothic"/>
                </a:rPr>
                <a:t>e</a:t>
              </a:r>
              <a:r>
                <a:rPr b="0" lang="en-US" sz="1400" spc="-1" strike="noStrike" baseline="30000">
                  <a:solidFill>
                    <a:srgbClr val="003562"/>
                  </a:solidFill>
                  <a:latin typeface="Century Gothic"/>
                </a:rPr>
                <a:t>-</a:t>
              </a:r>
              <a:endParaRPr b="1" lang="en-US" sz="1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016520" y="4788000"/>
            <a:ext cx="374400" cy="307080"/>
            <a:chOff x="4016520" y="4788000"/>
            <a:chExt cx="374400" cy="307080"/>
          </a:xfrm>
        </p:grpSpPr>
        <p:sp>
          <p:nvSpPr>
            <p:cNvPr id="167" name=""/>
            <p:cNvSpPr/>
            <p:nvPr/>
          </p:nvSpPr>
          <p:spPr>
            <a:xfrm>
              <a:off x="4110120" y="4875120"/>
              <a:ext cx="189000" cy="176400"/>
            </a:xfrm>
            <a:prstGeom prst="ellipse">
              <a:avLst/>
            </a:prstGeom>
            <a:solidFill>
              <a:srgbClr val="d2d8e4"/>
            </a:solidFill>
            <a:ln w="9360">
              <a:solidFill>
                <a:srgbClr val="0035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016520" y="478800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562"/>
                  </a:solidFill>
                  <a:latin typeface="Century Gothic"/>
                </a:rPr>
                <a:t>e</a:t>
              </a:r>
              <a:r>
                <a:rPr b="0" lang="en-US" sz="1400" spc="-1" strike="noStrike" baseline="30000">
                  <a:solidFill>
                    <a:srgbClr val="003562"/>
                  </a:solidFill>
                  <a:latin typeface="Century Gothic"/>
                </a:rPr>
                <a:t>-</a:t>
              </a:r>
              <a:endParaRPr b="1" lang="en-US" sz="1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916440" y="4376880"/>
            <a:ext cx="374400" cy="307080"/>
            <a:chOff x="3916440" y="4376880"/>
            <a:chExt cx="374400" cy="307080"/>
          </a:xfrm>
        </p:grpSpPr>
        <p:sp>
          <p:nvSpPr>
            <p:cNvPr id="170" name=""/>
            <p:cNvSpPr/>
            <p:nvPr/>
          </p:nvSpPr>
          <p:spPr>
            <a:xfrm>
              <a:off x="4010040" y="4464000"/>
              <a:ext cx="189000" cy="176400"/>
            </a:xfrm>
            <a:prstGeom prst="ellipse">
              <a:avLst/>
            </a:prstGeom>
            <a:solidFill>
              <a:srgbClr val="d2d8e4"/>
            </a:solidFill>
            <a:ln w="9360">
              <a:solidFill>
                <a:srgbClr val="0035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16440" y="43768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562"/>
                  </a:solidFill>
                  <a:latin typeface="Century Gothic"/>
                </a:rPr>
                <a:t>e</a:t>
              </a:r>
              <a:r>
                <a:rPr b="0" lang="en-US" sz="1400" spc="-1" strike="noStrike" baseline="30000">
                  <a:solidFill>
                    <a:srgbClr val="003562"/>
                  </a:solidFill>
                  <a:latin typeface="Century Gothic"/>
                </a:rPr>
                <a:t>-</a:t>
              </a:r>
              <a:endParaRPr b="1" lang="en-US" sz="1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49520" y="4746600"/>
            <a:ext cx="374400" cy="307080"/>
            <a:chOff x="1649520" y="4746600"/>
            <a:chExt cx="374400" cy="307080"/>
          </a:xfrm>
        </p:grpSpPr>
        <p:sp>
          <p:nvSpPr>
            <p:cNvPr id="173" name=""/>
            <p:cNvSpPr/>
            <p:nvPr/>
          </p:nvSpPr>
          <p:spPr>
            <a:xfrm>
              <a:off x="1743120" y="4833720"/>
              <a:ext cx="189000" cy="176400"/>
            </a:xfrm>
            <a:prstGeom prst="ellipse">
              <a:avLst/>
            </a:prstGeom>
            <a:solidFill>
              <a:srgbClr val="d2d8e4"/>
            </a:solidFill>
            <a:ln w="9360">
              <a:solidFill>
                <a:srgbClr val="0035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49520" y="474660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562"/>
                  </a:solidFill>
                  <a:latin typeface="Century Gothic"/>
                </a:rPr>
                <a:t>e</a:t>
              </a:r>
              <a:r>
                <a:rPr b="0" lang="en-US" sz="1400" spc="-1" strike="noStrike" baseline="30000">
                  <a:solidFill>
                    <a:srgbClr val="003562"/>
                  </a:solidFill>
                  <a:latin typeface="Century Gothic"/>
                </a:rPr>
                <a:t>-</a:t>
              </a:r>
              <a:endParaRPr b="1" lang="en-US" sz="1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263600" y="4748040"/>
            <a:ext cx="374400" cy="307080"/>
            <a:chOff x="1263600" y="4748040"/>
            <a:chExt cx="374400" cy="307080"/>
          </a:xfrm>
        </p:grpSpPr>
        <p:sp>
          <p:nvSpPr>
            <p:cNvPr id="176" name=""/>
            <p:cNvSpPr/>
            <p:nvPr/>
          </p:nvSpPr>
          <p:spPr>
            <a:xfrm>
              <a:off x="1357200" y="4835160"/>
              <a:ext cx="189000" cy="176400"/>
            </a:xfrm>
            <a:prstGeom prst="ellipse">
              <a:avLst/>
            </a:prstGeom>
            <a:solidFill>
              <a:srgbClr val="d2d8e4"/>
            </a:solidFill>
            <a:ln w="9360">
              <a:solidFill>
                <a:srgbClr val="0035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63600" y="474804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562"/>
                  </a:solidFill>
                  <a:latin typeface="Century Gothic"/>
                </a:rPr>
                <a:t>e</a:t>
              </a:r>
              <a:r>
                <a:rPr b="0" lang="en-US" sz="1400" spc="-1" strike="noStrike" baseline="30000">
                  <a:solidFill>
                    <a:srgbClr val="003562"/>
                  </a:solidFill>
                  <a:latin typeface="Century Gothic"/>
                </a:rPr>
                <a:t>-</a:t>
              </a:r>
              <a:endParaRPr b="1" lang="en-US" sz="1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103480" y="4919760"/>
            <a:ext cx="1325520" cy="0"/>
          </a:xfrm>
          <a:prstGeom prst="line">
            <a:avLst/>
          </a:prstGeom>
          <a:ln w="25560">
            <a:solidFill>
              <a:srgbClr val="0035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3143160" y="3720600"/>
            <a:ext cx="752400" cy="1078200"/>
          </a:xfrm>
          <a:prstGeom prst="line">
            <a:avLst/>
          </a:prstGeom>
          <a:ln w="25560">
            <a:solidFill>
              <a:srgbClr val="0035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2757240" y="4124160"/>
            <a:ext cx="903240" cy="750960"/>
          </a:xfrm>
          <a:prstGeom prst="line">
            <a:avLst/>
          </a:prstGeom>
          <a:ln w="25560">
            <a:solidFill>
              <a:srgbClr val="0035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106440" y="5183280"/>
            <a:ext cx="563400" cy="457200"/>
          </a:xfrm>
          <a:prstGeom prst="line">
            <a:avLst/>
          </a:prstGeom>
          <a:ln w="25560">
            <a:solidFill>
              <a:srgbClr val="0035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482640" y="5389560"/>
            <a:ext cx="250920" cy="376200"/>
          </a:xfrm>
          <a:prstGeom prst="line">
            <a:avLst/>
          </a:prstGeom>
          <a:ln w="25560">
            <a:solidFill>
              <a:srgbClr val="00356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64160" y="5205240"/>
            <a:ext cx="381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562"/>
                </a:solidFill>
                <a:latin typeface="Century Gothic"/>
              </a:rPr>
              <a:t>Some are absorbed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87840" y="3781440"/>
            <a:ext cx="39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562"/>
                </a:solidFill>
                <a:latin typeface="Century Gothic"/>
              </a:rPr>
              <a:t>Some are “reflected”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B07C5-DBF3-4BBE-935D-8FA06CA8F8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14:16:45Z</dcterms:created>
  <dc:creator>ak127</dc:creator>
  <dc:description/>
  <dc:language>en-US</dc:language>
  <cp:lastModifiedBy> </cp:lastModifiedBy>
  <dcterms:modified xsi:type="dcterms:W3CDTF">2009-09-02T01:33:46Z</dcterms:modified>
  <cp:revision>627</cp:revision>
  <dc:subject/>
  <dc:title>Slide 1</dc:title>
</cp:coreProperties>
</file>